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BF17-F797-49C6-8787-9F7E43C0D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is one among the most popular genome brow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pularity is due to its usability and the glyph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ety of glyphs will allow the depic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nome features such as coding sequences, reading frames, centromeres, point access mu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ntitative data such as microarray or tiling array data, GC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quence alignments (gaps, mismatches, indel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research trends are expanding the genomic studies from centralized research community databases (eg: FlyBase, Ensembl) to much smaller and specific databases owned by individual molecular biology labs, more so because of low cost sequencing techniques being made available and as a result biologists are doing their own sequen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cumentation/instructions are intended for a professional bioinformatician. GBrowse setup, not an easy task for a typical biolog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, at CGB, wanted to bring GBrowse a little more closer to Biologists by allowing them more control over the GBrowse Administration without actually worrying about the details about installation and config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came up with WebGBrow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60AC-47C4-43BC-B511-9AA23B74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E63C-43A9-46A7-9EE2-4906EBD8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DCB-7A53-40AA-A652-4EC71290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C590-20F1-4F48-B0D3-30BC7A9C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185-5F2C-4987-8767-C5B1448F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7531-4CC0-4202-8502-725FBD74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091-01EB-4B8C-9792-F145077C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D1A-00C5-4B1F-B2CD-12C0FCB0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5489-6FD8-4E8F-9D53-2979E8BE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39B-8D5D-4E06-8C72-1B678FD1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6CB-2C53-48AB-9865-7E7CC875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D56-0905-462B-907C-D5C2EBC7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DC69-EFCF-4958-8BB8-E6D4FFE5D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aml.org/" TargetMode="External"/><Relationship Id="rId2" Type="http://schemas.openxmlformats.org/officeDocument/2006/relationships/hyperlink" Target="http://www.yaml.org/" TargetMode="External"/><Relationship Id="rId3" Type="http://schemas.openxmlformats.org/officeDocument/2006/relationships/hyperlink" Target="http://www.yaml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ebgbrowse.cgb.indiana.edu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A Web Server for GBrows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2997360"/>
            <a:ext cx="540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8"/>
                </a:solidFill>
                <a:latin typeface="Arial"/>
              </a:rPr>
              <a:t>Ram Podicheti </a:t>
            </a:r>
            <a:r>
              <a:rPr b="0" lang="en-US" sz="1400" spc="-1" strike="noStrike">
                <a:solidFill>
                  <a:srgbClr val="585858"/>
                </a:solidFill>
                <a:latin typeface="Arial"/>
              </a:rPr>
              <a:t>B.V.Sc. &amp; A.H. (D.V.M.), M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Staff Scientist –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Center for Genomics and Bioinfor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8"/>
                </a:solidFill>
                <a:latin typeface="Arial"/>
              </a:rPr>
              <a:t>Indian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164360" y="3357720"/>
            <a:ext cx="56196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1960" y="566100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/16/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 Conference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 Diego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In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67000" y="2666880"/>
            <a:ext cx="6210000" cy="25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2565360"/>
            <a:ext cx="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256536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50560" y="2421000"/>
            <a:ext cx="21848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GFF3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851280" y="2060640"/>
            <a:ext cx="0" cy="244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206064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49480" y="1916280"/>
            <a:ext cx="278064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ovide Email Address (optio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48000" y="1557360"/>
            <a:ext cx="0" cy="3240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155736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2000" y="1413000"/>
            <a:ext cx="16804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pload the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5912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62578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2997360"/>
            <a:ext cx="1008000" cy="72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Pa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572320" cy="3181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1619280" y="4436640"/>
            <a:ext cx="0" cy="1368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20720" y="5805360"/>
            <a:ext cx="3959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76760" y="5494320"/>
            <a:ext cx="252468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nique Feature set Identif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from the uploaded data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627280" y="1699920"/>
            <a:ext cx="0" cy="115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1700280"/>
            <a:ext cx="2952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1800" y="1413000"/>
            <a:ext cx="19411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glyphs suppl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 the glyph 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4435560"/>
            <a:ext cx="0" cy="144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5877000"/>
            <a:ext cx="2735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3160" y="5707080"/>
            <a:ext cx="315396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rief description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32360" y="3716280"/>
            <a:ext cx="0" cy="1657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5373720"/>
            <a:ext cx="646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4600" y="5202360"/>
            <a:ext cx="3190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 Sample Image of the selected gly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55640" y="4797000"/>
            <a:ext cx="0" cy="792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5589720"/>
            <a:ext cx="11527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dd Tra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yph Parameters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255680"/>
            <a:ext cx="6410520" cy="4981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4932360" y="1989000"/>
            <a:ext cx="0" cy="362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1989000"/>
            <a:ext cx="266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96360" y="1700280"/>
            <a:ext cx="12585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arame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ed Tracks shown in the configuration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95200" y="1600200"/>
            <a:ext cx="85536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V="1">
            <a:off x="1692360" y="4508640"/>
            <a:ext cx="0" cy="1512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602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0960" y="5851440"/>
            <a:ext cx="22320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List of tracks added so f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88000" y="4724280"/>
            <a:ext cx="0" cy="865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558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05520" y="5419800"/>
            <a:ext cx="2954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ation for the selected 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971640" y="5086080"/>
            <a:ext cx="0" cy="1366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6453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5640" y="6283440"/>
            <a:ext cx="15523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dit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84360" y="5130720"/>
            <a:ext cx="0" cy="819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5950080"/>
            <a:ext cx="2303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360" y="5805360"/>
            <a:ext cx="175968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Delete Track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020000" y="5084280"/>
            <a:ext cx="0" cy="57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566100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80360" y="5281560"/>
            <a:ext cx="15433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tton to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figured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262240"/>
            <a:ext cx="8496000" cy="35431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Browse Display with WebGBrowse Control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755640" y="1916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191628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3440" y="1746360"/>
            <a:ext cx="241020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WebGBrowse Control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ome Brow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opular web based genome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genome features along a reference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customiz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 set of “glyph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e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ativ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a data structure compatible with HTML::Form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into the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ize into a YAML file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yaml.or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 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gbrowse.cgb.indiana.ed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resources on the web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the glyph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ploading of a pre-existing conf file and start from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"General Section" configuration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more features (Balloons, plugin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zing the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 on how to add new 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back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from GMOD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olchik, 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3) The UCSC Genome Browser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cleic Acids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1, 51-5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lueter, S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6) xGDB: open-source computational infrastructure for the integrated evaluation and analysis of genome feature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B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7, R1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ker, J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4) The Ensembl Web site: mechanics of a genome brows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4, 951-9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in, L.D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2) The generic genome browser: a building block for a model organism system databa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nome 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2, 1599-16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1749600" cy="21862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0880" y="245412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jesh Gollap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uate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 of 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03280" y="4122720"/>
            <a:ext cx="1749600" cy="2185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55240" y="49752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Qunfeng D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1749240" cy="21859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55240" y="3645000"/>
            <a:ext cx="422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 Hemme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Scientist &amp; Database Unit L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Genomics and Bioinfor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a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6920" y="1714680"/>
            <a:ext cx="461016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6320" y="3141720"/>
            <a:ext cx="641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research was supported in part by the Indiana METACy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ve of Indiana University, funded in part through a maj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 from the Lilly Endowment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00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2852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4800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19640" y="17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1964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242100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equenc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34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house sequencing and data maintenance by molecular biology labs and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49228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Research Tr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of GBrowse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79280" y="2276640"/>
            <a:ext cx="4546440" cy="11808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Large Scale databases such as Community databases, Model organism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844640"/>
            <a:ext cx="770580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pecific, but smaller databases such as a lab owned database or Individual Researcher’s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oftware installation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GFF3 datase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riting the configura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80000" y="3876840"/>
            <a:ext cx="2967120" cy="2589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56000" y="3357720"/>
            <a:ext cx="2087280" cy="936360"/>
          </a:xfrm>
          <a:prstGeom prst="cloudCallout">
            <a:avLst>
              <a:gd name="adj1" fmla="val -46425"/>
              <a:gd name="adj2" fmla="val 82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492280"/>
            <a:ext cx="2303280" cy="1152720"/>
          </a:xfrm>
          <a:prstGeom prst="cloudCallout">
            <a:avLst>
              <a:gd name="adj1" fmla="val -11611"/>
              <a:gd name="adj2" fmla="val 976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GBrowse Available to Biologists wi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hass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ries about GBrowse configuration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424240" y="2781360"/>
            <a:ext cx="42955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WebGBrowse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G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users to upload their GFF3 data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ed by a Glyph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information for 40+ gly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s in Configuring the display of each genomic feature into individual tr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the datasets with the specified configuration settings on an integrated GBrows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6:33:10Z</dcterms:created>
  <dc:creator>Meijia Gao</dc:creator>
  <dc:description/>
  <dc:language>en-US</dc:language>
  <cp:lastModifiedBy>Meijia Gao</cp:lastModifiedBy>
  <dcterms:modified xsi:type="dcterms:W3CDTF">2009-01-16T17:43:38Z</dcterms:modified>
  <cp:revision>69</cp:revision>
  <dc:subject/>
  <dc:title>WebGBrowse                                   A Web Server for GBrowse Configuration</dc:title>
</cp:coreProperties>
</file>